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camera.wav" ContentType="audio/x-wav"/>
  <Override PartName="/ppt/media/image4.jpeg" ContentType="image/jpeg"/>
  <Override PartName="/ppt/media/image25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png" ContentType="image/png"/>
  <Override PartName="/ppt/media/image30.gif" ContentType="image/gif"/>
  <Override PartName="/ppt/media/image23.png" ContentType="image/png"/>
  <Override PartName="/ppt/media/image13.jpeg" ContentType="image/jpeg"/>
  <Override PartName="/ppt/media/image31.png" ContentType="image/png"/>
  <Override PartName="/ppt/media/image32.png" ContentType="image/png"/>
  <Override PartName="/ppt/media/image3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221-14DD-425B-8B51-F7DC29FD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625-FE2C-4C35-A65D-062DE869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456-5E44-41F3-A56E-35B5EBF5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ABF-7800-4D96-B575-AB939B69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11D5-F88B-4D41-9067-20693DCD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AAB8-D0D7-4F2E-A2D2-3F9A1948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E22F-A22E-4A21-B607-98271596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2695-121B-4CEC-A0A3-61E05766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283B-F8A4-4A2F-8F99-3E17336D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1210-74C3-4A4D-BC7D-482503DF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2D3F-2666-42E1-93F7-4615EC3C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135-B5FF-4416-9710-75CABCC8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346B-2D1F-46BD-8C1F-C2ACD50D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19BD-85A7-4F2D-B857-0E2F03AD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1CF4-014A-4505-AE71-F7B3833B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9D26-66BC-462B-9F51-A6CCCDD8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D902-CCB7-4F4D-AB44-CE5C40AE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93021-6BC9-4E28-AC3D-C5B75D5D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65404-E1C1-4568-A933-6F69C3E8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FF0C-04CF-4B17-928B-77B8D9FC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E4914-1157-4F89-B0CB-A370E9D1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5F094-951B-4202-A517-4B0D2B39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EBE-C870-478B-BC00-908024B6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1BC1C-4002-4F36-98CF-C78EAB72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8407F-AE17-493E-A55A-AC9453AF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FE30B-8ECA-4B96-AE2A-FEA401BB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02494-F592-4B27-88B1-D710A5EE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1E3DB-DE6B-4B7A-98CB-685D292F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7C4CD-F578-4754-B34B-90F1E20B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D59E8-86CC-4C07-AD74-AF86F9C2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436B0-382F-40A7-929C-AEA21B42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CD623-B272-45AA-A75F-E3575B7D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87244-4AA1-499F-8B89-C11D0239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644D-66D7-4003-9C8A-363B9AF9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3F998-8F4C-4D31-91C0-789A667C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0FACA-C2CC-491B-9DE6-156D23ED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727AF-DCFC-4562-89E0-EE6D5513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068C4-4BA4-408C-B768-E5621990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C7672-0633-4F87-88E2-2F797758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0F9A8-CA3B-47E5-9302-2F01C55B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3261F-D3C6-4C0A-AA14-A636C47B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DF18A-3E0A-4CB6-A600-13FF0283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21794-6848-4D1E-81C1-DCC745D9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82A5D-978A-4607-AE4F-818AE831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9B7-C8C3-4240-8763-7063162A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B631A-5AAD-40BE-8FE2-47C5DFE7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16E4E-66D1-4EA9-A01B-FA8F3346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77A9D-00D1-42A3-9A51-8B764E87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659C3-02C1-470A-B224-3F3DBC39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C5D61-06C0-4231-8E6F-FF449F15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E4626-EA1B-4DD3-AB63-69604949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5DF50-68E1-45C5-8467-71AC7961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7C297-4B4E-4881-91D5-116393AE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6AFB6-EDE5-494D-BC89-0F74D0DB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A37AA-C1E9-4D84-8052-E032526F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338-7E07-4DDC-BAD4-2E7952D6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D64FC-3787-4524-AB98-AEC5B91B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E766-8F20-44F5-A15E-866008A1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A4F-3D8A-426F-A8EE-04415B9E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B984-8358-456D-88D8-E95F9480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6d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F3FB-F0B9-4588-99EC-BF58362FDA18}" type="slidenum">
              <a:rPr b="0" lang="es-ES" sz="1200" spc="-1" strike="noStrike">
                <a:solidFill>
                  <a:srgbClr val="dfe6d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6d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686D-AA88-4A2B-900E-255E3DD8C7DE}" type="slidenum">
              <a:rPr b="0" lang="es-ES" sz="1200" spc="-1" strike="noStrike">
                <a:solidFill>
                  <a:srgbClr val="dfe6d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d364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d3641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d364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C2B8-A4D3-43B7-9351-C34F6F4C904E}" type="slidenum">
              <a:rPr b="0" lang="es-ES" sz="1200" spc="-1" strike="noStrike">
                <a:solidFill>
                  <a:srgbClr val="1d36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6d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2538-5FE2-4B0C-B9C0-1179834FC4B8}" type="slidenum">
              <a:rPr b="0" lang="es-ES" sz="1200" spc="-1" strike="noStrike">
                <a:solidFill>
                  <a:srgbClr val="dfe6d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6d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F7E0-A1A6-41F2-9F55-1F39804FA575}" type="slidenum">
              <a:rPr b="0" lang="es-ES" sz="1200" spc="-1" strike="noStrike">
                <a:solidFill>
                  <a:srgbClr val="dfe6d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8.png"/><Relationship Id="rId5" Type="http://schemas.openxmlformats.org/officeDocument/2006/relationships/hyperlink" Target="https://www.youtube.com/watch?v=sQOMoLmlrqQ" TargetMode="External"/><Relationship Id="rId6" Type="http://schemas.openxmlformats.org/officeDocument/2006/relationships/image" Target="../media/image19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1 Título" descr=""/>
          <p:cNvPicPr/>
          <p:nvPr/>
        </p:nvPicPr>
        <p:blipFill>
          <a:blip r:embed="rId1"/>
          <a:stretch/>
        </p:blipFill>
        <p:spPr>
          <a:xfrm>
            <a:off x="311040" y="615960"/>
            <a:ext cx="8388360" cy="1346040"/>
          </a:xfrm>
          <a:prstGeom prst="rect">
            <a:avLst/>
          </a:prstGeom>
          <a:ln w="0">
            <a:noFill/>
          </a:ln>
        </p:spPr>
      </p:pic>
      <p:pic>
        <p:nvPicPr>
          <p:cNvPr id="391" name="3 Imagen" descr=""/>
          <p:cNvPicPr/>
          <p:nvPr/>
        </p:nvPicPr>
        <p:blipFill>
          <a:blip r:embed="rId2"/>
          <a:stretch/>
        </p:blipFill>
        <p:spPr>
          <a:xfrm>
            <a:off x="611280" y="2009880"/>
            <a:ext cx="7921440" cy="4298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1 Título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3460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Cultural y Monumental: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Albacete: Alcaraz y Almans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Ciudad Real: Almagro y Viso del Marqué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Cuenca: Alarcón, Segóbriga, y Belmont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Guadalajara: Sigüenza y Pastran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Toledo: Tembleque y Oropes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.De Naturaleza: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Guadalajara: El Hayedo de Tejera Negr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Entre Toledo y C. Real: Cabañer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	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33" name="1 Imagen" descr=""/>
          <p:cNvPicPr/>
          <p:nvPr/>
        </p:nvPicPr>
        <p:blipFill>
          <a:blip r:embed="rId2"/>
          <a:stretch/>
        </p:blipFill>
        <p:spPr>
          <a:xfrm>
            <a:off x="6804000" y="4221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34" name="2 Imagen" descr=""/>
          <p:cNvPicPr/>
          <p:nvPr/>
        </p:nvPicPr>
        <p:blipFill>
          <a:blip r:embed="rId3"/>
          <a:stretch/>
        </p:blipFill>
        <p:spPr>
          <a:xfrm>
            <a:off x="6875640" y="1628640"/>
            <a:ext cx="156204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1 Título" descr=""/>
          <p:cNvPicPr/>
          <p:nvPr/>
        </p:nvPicPr>
        <p:blipFill>
          <a:blip r:embed="rId1"/>
          <a:stretch/>
        </p:blipFill>
        <p:spPr>
          <a:xfrm>
            <a:off x="682560" y="476280"/>
            <a:ext cx="7772400" cy="10047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178920" y="2133720"/>
            <a:ext cx="44197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w Cen MT"/>
              </a:rPr>
              <a:t>-El comercio: es la actividad de comprar y vender productos.</a:t>
            </a:r>
            <a:endParaRPr b="0" lang="en-US" sz="1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w Cen MT"/>
              </a:rPr>
              <a:t>-Personas que compran: consumidores.</a:t>
            </a:r>
            <a:endParaRPr b="0" lang="en-US" sz="1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w Cen MT"/>
              </a:rPr>
              <a:t>-Personas que venden: vendedores.</a:t>
            </a:r>
            <a:endParaRPr b="0" lang="en-US" sz="1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w Cen MT"/>
              </a:rPr>
              <a:t>-Lugares de compra-venta: establecimientos comerciales, mercadillos , ferias…</a:t>
            </a:r>
            <a:endParaRPr b="0" lang="en-US" sz="1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w Cen MT"/>
              </a:rPr>
              <a:t>-También se puede realizar esta actividad por catálogo, por internet.</a:t>
            </a:r>
            <a:endParaRPr b="0" lang="en-US" sz="1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w Cen MT"/>
              </a:rPr>
              <a:t>-Las actividades comerciales: son las actividades relacionadas con la compra y venta de productos</a:t>
            </a:r>
            <a:endParaRPr b="0" lang="en-US" sz="1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4" name="3 Imagen" descr=""/>
          <p:cNvPicPr/>
          <p:nvPr/>
        </p:nvPicPr>
        <p:blipFill>
          <a:blip r:embed="rId2"/>
          <a:stretch/>
        </p:blipFill>
        <p:spPr>
          <a:xfrm>
            <a:off x="5148360" y="2754360"/>
            <a:ext cx="3600360" cy="4103640"/>
          </a:xfrm>
          <a:prstGeom prst="rect">
            <a:avLst/>
          </a:prstGeom>
          <a:ln w="0">
            <a:noFill/>
          </a:ln>
        </p:spPr>
      </p:pic>
      <p:pic>
        <p:nvPicPr>
          <p:cNvPr id="395" name="4 Imagen" descr=""/>
          <p:cNvPicPr/>
          <p:nvPr/>
        </p:nvPicPr>
        <p:blipFill>
          <a:blip r:embed="rId3"/>
          <a:stretch/>
        </p:blipFill>
        <p:spPr>
          <a:xfrm>
            <a:off x="468360" y="50760"/>
            <a:ext cx="3627360" cy="1728720"/>
          </a:xfrm>
          <a:prstGeom prst="rect">
            <a:avLst/>
          </a:prstGeom>
          <a:ln w="0">
            <a:noFill/>
          </a:ln>
        </p:spPr>
      </p:pic>
      <p:pic>
        <p:nvPicPr>
          <p:cNvPr id="396" name="5 Imagen" descr=""/>
          <p:cNvPicPr/>
          <p:nvPr/>
        </p:nvPicPr>
        <p:blipFill>
          <a:blip r:embed="rId4"/>
          <a:stretch/>
        </p:blipFill>
        <p:spPr>
          <a:xfrm>
            <a:off x="268200" y="4653000"/>
            <a:ext cx="3633840" cy="2039760"/>
          </a:xfrm>
          <a:prstGeom prst="rect">
            <a:avLst/>
          </a:prstGeom>
          <a:ln w="0">
            <a:noFill/>
          </a:ln>
        </p:spPr>
      </p:pic>
      <p:pic>
        <p:nvPicPr>
          <p:cNvPr id="397" name="6 Imagen" descr=""/>
          <p:cNvPicPr/>
          <p:nvPr/>
        </p:nvPicPr>
        <p:blipFill>
          <a:blip r:embed="rId5"/>
          <a:stretch/>
        </p:blipFill>
        <p:spPr>
          <a:xfrm>
            <a:off x="5435640" y="189000"/>
            <a:ext cx="345924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3460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826920" y="1413000"/>
            <a:ext cx="72741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A todas las actividades relacionadas con la compra y venta de productos.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Personas relacionadas con estas Actividades: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Fabricante: fabrica el producto.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Publicista: hace campañas para  dar a conocer el producto.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Distribuidor: transporta los productos de la fábrica hasta la tienda.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Escaparatista: coloca los productos en los escaparates.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Dependiente: atiende en la tienda y cobra el producto.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0" name="1 Imagen" descr=""/>
          <p:cNvPicPr/>
          <p:nvPr/>
        </p:nvPicPr>
        <p:blipFill>
          <a:blip r:embed="rId2"/>
          <a:stretch/>
        </p:blipFill>
        <p:spPr>
          <a:xfrm>
            <a:off x="179280" y="3770280"/>
            <a:ext cx="1800360" cy="2808360"/>
          </a:xfrm>
          <a:prstGeom prst="rect">
            <a:avLst/>
          </a:prstGeom>
          <a:ln w="0">
            <a:noFill/>
          </a:ln>
        </p:spPr>
      </p:pic>
      <p:pic>
        <p:nvPicPr>
          <p:cNvPr id="401" name="2 Imagen" descr=""/>
          <p:cNvPicPr/>
          <p:nvPr/>
        </p:nvPicPr>
        <p:blipFill>
          <a:blip r:embed="rId3"/>
          <a:stretch/>
        </p:blipFill>
        <p:spPr>
          <a:xfrm>
            <a:off x="1979640" y="3770280"/>
            <a:ext cx="1841400" cy="2808360"/>
          </a:xfrm>
          <a:prstGeom prst="rect">
            <a:avLst/>
          </a:prstGeom>
          <a:ln w="0">
            <a:noFill/>
          </a:ln>
        </p:spPr>
      </p:pic>
      <p:pic>
        <p:nvPicPr>
          <p:cNvPr id="402" name="3 Imagen" descr=""/>
          <p:cNvPicPr/>
          <p:nvPr/>
        </p:nvPicPr>
        <p:blipFill>
          <a:blip r:embed="rId4"/>
          <a:stretch/>
        </p:blipFill>
        <p:spPr>
          <a:xfrm>
            <a:off x="5143680" y="3768840"/>
            <a:ext cx="2076120" cy="2752560"/>
          </a:xfrm>
          <a:prstGeom prst="rect">
            <a:avLst/>
          </a:prstGeom>
          <a:ln w="0">
            <a:noFill/>
          </a:ln>
        </p:spPr>
      </p:pic>
      <p:pic>
        <p:nvPicPr>
          <p:cNvPr id="403" name="4 Imagen" descr=""/>
          <p:cNvPicPr/>
          <p:nvPr/>
        </p:nvPicPr>
        <p:blipFill>
          <a:blip r:embed="rId5"/>
          <a:stretch/>
        </p:blipFill>
        <p:spPr>
          <a:xfrm>
            <a:off x="3805200" y="3768840"/>
            <a:ext cx="1338480" cy="2754360"/>
          </a:xfrm>
          <a:prstGeom prst="rect">
            <a:avLst/>
          </a:prstGeom>
          <a:ln w="0">
            <a:noFill/>
          </a:ln>
        </p:spPr>
      </p:pic>
      <p:pic>
        <p:nvPicPr>
          <p:cNvPr id="404" name="5 Imagen" descr=""/>
          <p:cNvPicPr/>
          <p:nvPr/>
        </p:nvPicPr>
        <p:blipFill>
          <a:blip r:embed="rId6"/>
          <a:stretch/>
        </p:blipFill>
        <p:spPr>
          <a:xfrm>
            <a:off x="7219800" y="3770280"/>
            <a:ext cx="1600200" cy="2751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1 Título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1462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6840" y="981000"/>
            <a:ext cx="69231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9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dfe6d0"/>
                </a:solidFill>
                <a:latin typeface="Tw Cen MT"/>
              </a:rPr>
              <a:t>Pequeño comercio y grandes superficies. (pequeña tienda e hipermercado o gran superficie)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 algn="just">
              <a:lnSpc>
                <a:spcPct val="9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dfe6d0"/>
                </a:solidFill>
                <a:latin typeface="Tw Cen MT"/>
              </a:rPr>
              <a:t>Comercio al por mayor y al por menor: son tiendas que venden directamente al consumidor en pequeñas o en grandes cantidades a una tienda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 algn="just">
              <a:lnSpc>
                <a:spcPct val="9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dfe6d0"/>
                </a:solidFill>
                <a:latin typeface="Tw Cen MT"/>
              </a:rPr>
              <a:t>Comercio nacional (en el mismo país) e internacional (entre países)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7" name="1 Imagen" descr=""/>
          <p:cNvPicPr/>
          <p:nvPr/>
        </p:nvPicPr>
        <p:blipFill>
          <a:blip r:embed="rId2"/>
          <a:stretch/>
        </p:blipFill>
        <p:spPr>
          <a:xfrm>
            <a:off x="5219640" y="4221000"/>
            <a:ext cx="3362400" cy="2087640"/>
          </a:xfrm>
          <a:prstGeom prst="rect">
            <a:avLst/>
          </a:prstGeom>
          <a:ln w="0">
            <a:noFill/>
          </a:ln>
        </p:spPr>
      </p:pic>
      <p:pic>
        <p:nvPicPr>
          <p:cNvPr id="408" name="2 Imagen" descr=""/>
          <p:cNvPicPr/>
          <p:nvPr/>
        </p:nvPicPr>
        <p:blipFill>
          <a:blip r:embed="rId3"/>
          <a:stretch/>
        </p:blipFill>
        <p:spPr>
          <a:xfrm>
            <a:off x="395280" y="3429000"/>
            <a:ext cx="2627280" cy="1967040"/>
          </a:xfrm>
          <a:prstGeom prst="rect">
            <a:avLst/>
          </a:prstGeom>
          <a:ln w="0">
            <a:noFill/>
          </a:ln>
        </p:spPr>
      </p:pic>
      <p:pic>
        <p:nvPicPr>
          <p:cNvPr id="409" name="3 Imagen" descr=""/>
          <p:cNvPicPr/>
          <p:nvPr/>
        </p:nvPicPr>
        <p:blipFill>
          <a:blip r:embed="rId4"/>
          <a:stretch/>
        </p:blipFill>
        <p:spPr>
          <a:xfrm>
            <a:off x="1042920" y="4869000"/>
            <a:ext cx="2859120" cy="1604880"/>
          </a:xfrm>
          <a:prstGeom prst="rect">
            <a:avLst/>
          </a:prstGeom>
          <a:ln w="0">
            <a:noFill/>
          </a:ln>
        </p:spPr>
      </p:pic>
      <p:pic>
        <p:nvPicPr>
          <p:cNvPr id="410" name="4 Imagen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96360" y="1052640"/>
            <a:ext cx="1284120" cy="1284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7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1 Título" descr=""/>
          <p:cNvPicPr/>
          <p:nvPr/>
        </p:nvPicPr>
        <p:blipFill>
          <a:blip r:embed="rId1"/>
          <a:stretch/>
        </p:blipFill>
        <p:spPr>
          <a:xfrm>
            <a:off x="274680" y="24912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68360" y="105228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dfe6d0"/>
                </a:solidFill>
                <a:latin typeface="Tw Cen MT"/>
              </a:rPr>
              <a:t>Tipos de vías: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dfe6d0"/>
                </a:solidFill>
                <a:latin typeface="Tw Cen MT"/>
              </a:rPr>
              <a:t>Caminos/Carreteras(Autopistas, Autovías)/Vías de tren/Rutas marítimas/Rutas aéreas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3" name="1 Imagen" descr=""/>
          <p:cNvPicPr/>
          <p:nvPr/>
        </p:nvPicPr>
        <p:blipFill>
          <a:blip r:embed="rId2"/>
          <a:stretch/>
        </p:blipFill>
        <p:spPr>
          <a:xfrm>
            <a:off x="611280" y="2505240"/>
            <a:ext cx="8064360" cy="3876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1 Título" descr=""/>
          <p:cNvPicPr/>
          <p:nvPr/>
        </p:nvPicPr>
        <p:blipFill>
          <a:blip r:embed="rId1"/>
          <a:stretch/>
        </p:blipFill>
        <p:spPr>
          <a:xfrm>
            <a:off x="171360" y="212760"/>
            <a:ext cx="7356600" cy="16351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24000" y="1413000"/>
            <a:ext cx="45352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dfe6d0"/>
                </a:solidFill>
                <a:latin typeface="Tw Cen MT"/>
              </a:rPr>
              <a:t>Carreteras: A-2, A-3, A-4, A-5 que comunica Madrid con distintas comunidades atravesando la nuestra.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dfe6d0"/>
                </a:solidFill>
                <a:latin typeface="Tw Cen MT"/>
              </a:rPr>
              <a:t>Ferroviaria: Tren de Alta Velocidad (AVE).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dfe6d0"/>
                </a:solidFill>
                <a:latin typeface="Tw Cen MT"/>
              </a:rPr>
              <a:t>Aérea: Albacete, el único aeropuerto.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6" name="1 Imagen" descr=""/>
          <p:cNvPicPr/>
          <p:nvPr/>
        </p:nvPicPr>
        <p:blipFill>
          <a:blip r:embed="rId2"/>
          <a:stretch/>
        </p:blipFill>
        <p:spPr>
          <a:xfrm>
            <a:off x="1187280" y="4292640"/>
            <a:ext cx="1200240" cy="1201680"/>
          </a:xfrm>
          <a:prstGeom prst="rect">
            <a:avLst/>
          </a:prstGeom>
          <a:ln w="0">
            <a:noFill/>
          </a:ln>
        </p:spPr>
      </p:pic>
      <p:pic>
        <p:nvPicPr>
          <p:cNvPr id="417" name="2 Imagen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248360" cy="4032360"/>
          </a:xfrm>
          <a:prstGeom prst="rect">
            <a:avLst/>
          </a:prstGeom>
          <a:ln w="0">
            <a:noFill/>
          </a:ln>
        </p:spPr>
      </p:pic>
      <p:pic>
        <p:nvPicPr>
          <p:cNvPr id="418" name="3 Imagen" descr=""/>
          <p:cNvPicPr/>
          <p:nvPr/>
        </p:nvPicPr>
        <p:blipFill>
          <a:blip r:embed="rId4"/>
          <a:stretch/>
        </p:blipFill>
        <p:spPr>
          <a:xfrm>
            <a:off x="5003640" y="2398680"/>
            <a:ext cx="3889440" cy="4054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146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Medios de comunicación directa entre 2 personas: correo y teléfon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Medios que transmiten la información a muchas personas: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Prens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Radio      </a:t>
            </a: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Televisió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1" name="1 Imagen" descr=""/>
          <p:cNvPicPr/>
          <p:nvPr/>
        </p:nvPicPr>
        <p:blipFill>
          <a:blip r:embed="rId2"/>
          <a:stretch/>
        </p:blipFill>
        <p:spPr>
          <a:xfrm>
            <a:off x="900000" y="5597640"/>
            <a:ext cx="779400" cy="780840"/>
          </a:xfrm>
          <a:prstGeom prst="rect">
            <a:avLst/>
          </a:prstGeom>
          <a:ln w="0">
            <a:noFill/>
          </a:ln>
        </p:spPr>
      </p:pic>
      <p:pic>
        <p:nvPicPr>
          <p:cNvPr id="422" name="4 Imagen" descr=""/>
          <p:cNvPicPr/>
          <p:nvPr/>
        </p:nvPicPr>
        <p:blipFill>
          <a:blip r:embed="rId3"/>
          <a:stretch/>
        </p:blipFill>
        <p:spPr>
          <a:xfrm>
            <a:off x="7388280" y="5597640"/>
            <a:ext cx="780840" cy="780840"/>
          </a:xfrm>
          <a:prstGeom prst="rect">
            <a:avLst/>
          </a:prstGeom>
          <a:ln w="0">
            <a:noFill/>
          </a:ln>
        </p:spPr>
      </p:pic>
      <p:pic>
        <p:nvPicPr>
          <p:cNvPr id="423" name="2 Imagen" descr=""/>
          <p:cNvPicPr/>
          <p:nvPr/>
        </p:nvPicPr>
        <p:blipFill>
          <a:blip r:embed="rId4"/>
          <a:stretch/>
        </p:blipFill>
        <p:spPr>
          <a:xfrm>
            <a:off x="2484360" y="3429000"/>
            <a:ext cx="388800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3460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Hacer turismo es viajar por placer para conocer y disfrutar de lugares nuev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Las actividades turísticas son los trabajos relacionados con las actividades turístic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6" name="1 Imagen" descr=""/>
          <p:cNvPicPr/>
          <p:nvPr/>
        </p:nvPicPr>
        <p:blipFill>
          <a:blip r:embed="rId2"/>
          <a:stretch/>
        </p:blipFill>
        <p:spPr>
          <a:xfrm>
            <a:off x="4932360" y="2852640"/>
            <a:ext cx="3929040" cy="3591000"/>
          </a:xfrm>
          <a:prstGeom prst="rect">
            <a:avLst/>
          </a:prstGeom>
          <a:ln w="0">
            <a:noFill/>
          </a:ln>
        </p:spPr>
      </p:pic>
      <p:pic>
        <p:nvPicPr>
          <p:cNvPr id="427" name="2 Imagen" descr=""/>
          <p:cNvPicPr/>
          <p:nvPr/>
        </p:nvPicPr>
        <p:blipFill>
          <a:blip r:embed="rId3"/>
          <a:stretch/>
        </p:blipFill>
        <p:spPr>
          <a:xfrm>
            <a:off x="2124000" y="4076640"/>
            <a:ext cx="156060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1 Título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Turismo de sol y play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Turismo de naturalez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Turismo rural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Turismo cultural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30" name="1 Imagen" descr=""/>
          <p:cNvPicPr/>
          <p:nvPr/>
        </p:nvPicPr>
        <p:blipFill>
          <a:blip r:embed="rId2"/>
          <a:stretch/>
        </p:blipFill>
        <p:spPr>
          <a:xfrm>
            <a:off x="3492360" y="3068640"/>
            <a:ext cx="533412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20:23:03Z</dcterms:created>
  <dc:creator>familia garcia</dc:creator>
  <dc:description/>
  <dc:language>en-US</dc:language>
  <cp:lastModifiedBy>familia garcia</cp:lastModifiedBy>
  <dcterms:modified xsi:type="dcterms:W3CDTF">2015-05-10T15:29:56Z</dcterms:modified>
  <cp:revision>15</cp:revision>
  <dc:subject/>
  <dc:title>EL COMERCIO Y LAS ACTIVIDADES COMERCIALES</dc:title>
</cp:coreProperties>
</file>